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2412-0F78-4A33-B92D-A6D8A5F1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0873-5E98-4DBC-B02F-A867B949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3A362-9F3C-46C7-9D74-D372EF81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56639-E0AD-482A-9167-2184EABC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D388C-9B77-4499-9623-35B3A3C9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EE036-3257-49A2-95F8-409327C9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B19AB-0CEB-429E-9A6B-D6E9E519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6A387-A071-4D69-98D7-188C3508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663D7-5AEE-46EF-AB50-5EAA7E1F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9CAB0-1AA3-4800-AF74-66CBD454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DD75D-2096-45A2-9FAA-F18C8589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46E91-A2DA-4AB7-8ABC-0CEF5937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6ADF-8A3C-4CBF-9F36-5B5D9EB7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E68C9-99E0-4A1D-9E9E-8655B16A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D3C79-50A0-4605-A3DE-D39EAFB9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21EEB-81B2-47F7-87DD-2FD1AF36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C0ED4-5F41-42EE-96FE-384D40D3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94936-A2A8-46BD-8447-C62BA815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B7A35-18D2-4705-86A8-B33C5513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4E6F9-DC22-4687-9AD7-169256E3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C00BD-79E7-429E-A89D-615AA39A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3EFFB-20B1-4756-9A1D-06C062FB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76F90-C293-42FC-A5D2-F821BC31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D662-0B63-4C22-AE8B-D209BBA7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EC88C-2356-4C2A-B117-035AC284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7D469-C594-480E-A6EF-2CE65FCD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D736B-EFF6-4BB9-9C35-ABF982F2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5E6B1-5F31-46A2-943B-E541D922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A4EE2-35F5-4B81-B159-97DBFD1B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F8796-209C-4CFD-8751-5FDC0725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8D928-153E-4452-B6B0-28720C03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10516-7837-42CF-84AC-B756744D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E24A6-7315-42BF-9FA8-9A6C7A92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A10C1-75D0-4479-BE4D-814AED96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BD91-00C3-4C52-8D57-DE2C1E43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076A4-8BC1-4EB2-A9D6-0AB6A6E2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43DEC-30AA-4E83-8721-CF24D8E3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70D28-65E9-4121-B746-ADA3BACD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4BD53-177B-4B01-982C-FFCF0F7A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4E5E8-B999-4EA6-9D12-9A46D8D5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7826C-05A9-4F96-BC22-A1970599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92348-63FA-411C-BBBA-CC87EA03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9C8D1-4483-427A-BF72-1993F4B3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D694D-1B7B-4866-B44B-D71058C2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01F22-52BF-4CB1-8C6A-9FEE15DD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B919-F95C-426F-A9D0-9A11AC8E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59FC6-8A88-4970-B3E5-1B822246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9E9E6-7771-4893-B005-73A53412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A3B51-E5D2-48CE-991B-797F1AE4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06673-63A1-4219-9A39-B2EAB1BC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88F6B-4758-4ED1-B033-D6C9F3E7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7DEEB6-92C8-4038-8F1E-A599CCB7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9186BB-06CC-44B7-9C5D-0F6DC558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34A9E6-FB9F-4A50-98EE-8709F53B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02ADFE-3D9E-4665-AA37-9A9F7470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B1C47C-1408-4BF6-B290-2E4A46B0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B907-0FF3-478B-8E34-07FE461A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F158D-370D-44B9-B904-8AE145EA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262D70-DC90-410E-B3FA-E0C27955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608B7D-A941-4BB8-A412-88B27840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CB20F7-134B-49CD-8A43-87489153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B1FCFE-D807-4D61-9BC7-0ACAF480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0F0C1D-BB51-4ECB-A7B5-E8F0B947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F08B1D-237B-43AA-A083-87E13030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6F094D-853B-4133-9DA7-B1FFFE8A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CD2A6B-CEFC-4B5E-925B-84CD7003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FBDB05-C22D-4952-9C5C-A97CE225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B445-43EB-4581-837F-7BFE753D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0F1FF2-54A4-4088-9AB5-FB89F5AE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7C0256-E985-4A34-AF13-C50D11E2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A69F09-5074-4A5E-B48D-FE8227EA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D32A76-0799-4672-9979-D7A2B624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225A9-10A3-43EB-8E59-979EF3E2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7662E9-1196-470A-854A-2460FB28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F5EEC7-FCBB-4FDD-9A4B-811EFCF8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01B24F-1ED3-4942-A572-28AE4E9F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D7C49F-0E44-4331-975C-02EDA7CF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0C4FF0-29BC-4EBA-96ED-4510E7CC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2A93-5404-471C-BE29-061BB818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04BFAA-8ACA-4C71-AC47-94A6B71B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2137E2-4E40-49A8-800D-D2DA1F97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961301-E16C-455C-B775-DF6C89FB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E2468A-15EF-4BEA-99F1-E5E822DE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B2A733-A5B2-45E3-AEFB-FD80C5C7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BC03F1-97D8-4649-B34D-9AF7C022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3C9EEF-DDD5-4224-B76D-8ED0D4D5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AD60E5-4866-4457-BD43-2D0E0E92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9BEECA-73A3-4032-B146-A8F975D9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3BEACC-669E-47E4-B135-BDA49998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E6E8-40E5-43B4-B02E-3E51CDF8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68B26D-1A0B-4FB1-A132-39A9813A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255728-65E1-449A-AFFF-D3DA1C205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C1D520-5826-4B1E-91CC-89E011E8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0804E2-ED46-4567-B152-85CFFCA3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8738B7-636D-4743-93E1-681071FE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9832D2-7BC8-45D6-BD44-0838AFA9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C83FAC-9978-46E4-878E-4DDB9089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42A5CF-841D-457E-9446-F560EFBC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B17E93-3FA8-4086-94C2-C35DDB0A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D019B0-1076-4BC4-83C4-BE5E3EE3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B1BD-60EA-492A-AF8C-7EFF9D9A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6186BB-1093-421D-85DD-3BE54060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64BA2D-08C0-403B-8B8C-7A5CB276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9FA656-CC35-4635-B94F-A3E096C0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072E6D-9356-4035-B7CA-EFA9F232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BB2D59-7347-4C64-BF50-0B474DDC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488F27-E00E-4D37-91FF-B1791C22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AE450A-6606-4C01-A3D0-C71B2002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166012-1B55-4676-A48A-4B54BCF6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30537D-2EA4-4CA2-AB06-38BA753B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D7FBD7-9D4B-47AF-A4D7-0361FD72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696C-997F-4312-8343-10C376C2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0321-1BB3-401A-9524-CF73A8E0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17EA53-B7CE-4A6B-9A1D-41B05D0A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72D0E6-E57B-48E3-B550-33677909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5F33CE-7BE8-4F17-821A-72E7EBDA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D1D882-C81B-4EF1-8983-033F7620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F00178-812C-4806-95D3-DCC1F205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3C1ED7-07A7-4A82-8F67-9569B1CD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16AE60-442E-40A5-A8D1-10A42E07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C053FA-C8F8-4BAD-9374-D8EC763D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20CDCA-86A3-479F-8919-899E818B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DC69F3-85C5-41A5-9E25-063DD5B4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168D-9430-44D9-94C7-CC24B67A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055BF1-A896-4024-9273-F01EBBD5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314803-1B3A-483A-B04D-581CA82D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89949C-0EA7-456A-9FD6-E8AA01B9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F12827-1322-4BD1-B272-5ECC2A1F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131F74-88EB-4EC8-9D83-F691B18F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4A0742-DA16-4975-B0A5-D498A8BA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DBFA68-8391-4D72-B684-75C48914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4D827C-8C2E-4E1F-AF84-B6F3F1D3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DB8495-6352-4E49-AC10-F425DF5E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E01C48-BDD9-4BCF-990A-8DEBD3AC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DE40-1BB9-40A7-ACEC-389DD14A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394997-ACBA-48BF-ABF9-4496B90F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BB26F1-778F-4D15-9E4D-3765755A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69158D-F495-4B10-BC6F-2B4097C9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22B41B-15DA-411D-AA39-46BC626A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2D0B8F-B9F9-4C26-8326-2B3E3DC3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2657C1-78C7-4D64-8512-B7D656B8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327403-517D-4298-A763-DC6BF083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9470E6-960C-46A8-82BD-52C3C7DB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8C9E83-25D5-44C2-82EA-2B5D6822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8F4EBE-1E40-4371-B18B-64A21051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B27D-456B-4E9C-9C44-B307D81A5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3757E9-5CB7-4A5B-9A07-88088D09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B82C1A-13C4-432A-924E-2DF44D5B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9F1DC4-A5D3-4945-A8EA-33F76D25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3A0CE6-CEF3-45A9-BE61-19E58C7C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C14846-D1D5-45C5-A610-A60395DE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A9DB21-1D2E-4FC0-B6F2-4A8F2D97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54DADE-77A5-421F-958F-AF8CA717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452782-2BF3-4380-B515-AB1CB26B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6596A7-9C0F-491D-A874-1794526D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08EA15-C4CF-4678-ACE6-652F1190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5A89-C7DF-4A70-A861-EC118FF5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196A58-1D30-4A7E-AD73-8D84CDF7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2EC671-CDF8-42DA-9D99-BD0CA1ED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DB7005-862B-4403-ADC7-B9DAF41B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1E0C67-F7C5-4F2F-8166-C6F0FBD7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759089-1D94-4735-9B91-68E87E3B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5E0F94-DCAE-455E-BF49-243D44D6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1B43F7-95E1-4687-B69E-60CB5950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4510C6-3761-4B5C-A485-ECD3888E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7BE0BA-E96E-467A-95C2-AD7A9F1D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FE1A01-B13B-46C3-8F06-1C66A5B1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D38AF-2A0B-4A16-8EAC-9D995EC6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A9A666-984E-450D-86CE-B853DB64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EAEE70-EE9B-4840-AEAC-2E0677B4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0981E9-BD14-4497-9D09-67EAD340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39607-DBA6-4A15-8A94-A737C14D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ED257-4263-41E4-A9D0-B898C073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DA71F-9334-49BD-ADBD-040E4CD5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DE020-C44A-4363-80BD-11E603F1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A99-9D17-4D4A-B6FA-C4229E47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BE9DB-C064-4DAE-9125-0937635F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DCE79-631F-46C0-A76A-CD1FBCB8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9DD82-E85A-4B5F-A50C-8D6C0B72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3E99A-2C64-4F79-931A-8AE5A6AC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E3A71-D360-4FB5-AB0D-CA0CF749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AB1F6-D5DE-4B48-A015-FC7E8085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95308-D1E5-4F54-AC55-A2C8C982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99FC0-B547-4563-B5BA-C1800D562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71C4F-B657-481B-A195-51C5BBC8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59EC1-29B7-438C-B7EF-9EEBAFF6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1ED2-613C-445A-9AC4-7940AAF7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AF18B-674F-41D5-ACE6-2CBC05F8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43012-48F0-4654-8811-D999E39E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FA5CD-FD1E-4D72-8344-7F84531E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D7D9E-7A48-457C-8419-BBB583E6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86509-E554-44C4-B154-FBF90DC7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45990-45DD-49C4-A955-E7F68AEE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916D3-F839-4C15-AF12-FEE41012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BA144-F4E9-47F7-8D53-EF6B7A59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6121F-527A-4E6E-9F6C-5512DA45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ACDEA-1866-4A66-93EF-A57F1A60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8B16-2511-4FF9-B728-252D1528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ED0B3-C27C-4DA8-9597-B7F14942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6BE4A-CD02-4714-8CFC-CD84431C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42DF2-75A0-4BF6-A07E-05624C4C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7B45F-3C46-40A3-8F3E-F9671B8E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5E345-A3DB-4A0E-83C6-03F74177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F008B-2C6E-4FAA-9496-E01673CD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AB33A-E117-424E-8A5D-374C26A0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FF1CC-C831-4BE7-80E9-BAA82204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4CA48-F1C9-4B75-A8EF-A5E87C86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5047C-45C7-4F80-8601-481383E5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2415-C749-4973-9352-329CAFCF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DD409-2832-4036-8BBD-46EE5EB2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633D7-4B74-4C52-8721-BE2CDD06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EAC9B-FF25-4D99-B05C-91ABE1B8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29BDF-FAAD-44D9-953C-77141360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926D2-AB82-47B5-B90B-5588426B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6909C-289F-4FAF-B9C3-C741A3A8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31112-4C8E-4021-B677-E7E0FD8D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DE970-FFBF-453D-A34F-E76BE8B9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302DE-F31F-451A-A404-5C4EA7FF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80CC2-F2BD-4EEA-979B-F2BD9EA3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F7EF-E256-4CEC-8A3A-2697CBC6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38748-CE04-4D71-B188-7D5B9D82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69975-CE45-4383-8849-97A29A26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DBD6F-8823-422B-96A7-D8834019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D35B2-AF3E-436D-ABA7-8924BF10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70139-68EF-4277-B30F-12AFE13D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B758D-8817-4F26-98F7-C215ED2B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04D10-8E99-4003-BD9F-DC9222F4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5AAEE-2D5C-43BA-9BBD-105865F7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E4987-49DD-4431-A892-CD0AFEEB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3A151-9DF4-4ECB-8F43-5951BC14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316A-91EB-44F9-9A66-5346ABE2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33A79-83D6-495C-9F78-E36AD324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C43F7-BDC5-4360-BDDB-7650E226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069C8-F93E-49E5-A54D-DC0D7A2A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E7208-64E8-4EF8-B1BF-305AF711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772D7-BCB5-4C0F-AE13-4D1861EE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3A0E3-DA1B-45F5-A9B7-FE255578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913C3-6AE8-4BA6-98D5-EB32C6C7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6F584-CADC-4186-A0DC-5D1C229E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50B7D-E65B-42BD-865C-C77FC214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8C954-0C05-4F56-B19C-933D20A3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6499-4D7E-4562-9788-BF3B72DC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0F6DB-6642-4112-8234-3C8B6E3F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F15AD-1143-4F75-AF52-5330D4F0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E3990-2177-430B-97D0-F07500BE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0D7EA-007B-422B-8A36-2C6FDAF2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E1D38-2C14-43F4-950F-F45853F0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DDCE8-2799-45B7-8BC4-039CBCCC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C883A-6769-474A-B51A-85CF8F8E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EFA1E-436E-40CD-8BB7-7D8D6D25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6A6BC-320B-4AF6-9AAF-0405456B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3C4F6-EA3C-4722-84E0-AA02603D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5A7D-8A32-4EAD-96D2-72846C051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0615-5FEE-4E16-91E1-DE543AFFF7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D463-3837-4396-928B-D0D26F83A9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093F-570D-49FE-AE3C-6F0F519B05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CB12-11C0-4665-A951-7331C2F84F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0016-D607-40CB-AE10-165E695909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05D4-53CC-47F7-9A9D-E8B785DF12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46B1-FDDF-4854-A5A9-D8ADC57B0F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68A3-D1F0-4A54-93D3-5D071232C5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606D-D47F-4536-9AF6-7C59CEBA54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E885-C2EB-4655-9851-BB0C8D1E48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3058-57D3-43F7-A784-358CB8A8AD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5838-EB04-438D-BCA4-90D51827F0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6EBE-2F77-4516-9C4E-0D55F4093C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3447-A49B-436F-AFD7-4A64BAA71D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64A3-F4A9-43FD-A59A-ACAC58B71F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8BB9-0E48-4637-B112-A5A6A1FB41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44E9-F83B-4110-B5FB-30342C6CBB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5B82-2BDA-47A3-A096-F2894F0ED2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AA05-8432-4195-8AA5-9BBE2777E7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6654-FEE0-4DFC-AECE-97A029522C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9015-B854-4AB9-902F-EEFEABFCFB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41D4-F9A2-4DBD-B4E8-3EA81DDE2C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848E-34C4-42B2-A6CC-F069D05FFA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BA59-8AFA-481D-8ABC-4EA5D8F40A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9346-8416-4089-BD81-72541FD1FC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9B40-2A74-44CC-A9D3-14FAC51996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5BA4-3EAA-4A65-A4EA-7D3421999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3B27-0638-4E57-BD75-B63064B169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CDBF-9AC3-4CD7-B535-B6A238E7D2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4434-91D7-494A-B520-BF2D52EEA2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8338-6FD1-4EEB-A398-00A44C5079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EC3A-F3F6-4104-9DB2-11B5E52F76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40EF-B700-4E5B-8F8F-63555FBC4B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B4F8-27DB-49C0-9D9D-FD071F08DB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4339-E082-42F9-95C3-32D7176404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A9C4-1EE9-4CC8-9EB8-EB77BCE26E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C48F-7E16-4066-9F2E-5507A839AA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255E-2390-467C-AF75-06F5B69D8F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1E6C-B193-4194-B02D-3826B3CA76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885960" y="2371680"/>
            <a:ext cx="7372080" cy="55260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2157480" y="3333600"/>
            <a:ext cx="48290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" descr=""/>
          <p:cNvPicPr/>
          <p:nvPr/>
        </p:nvPicPr>
        <p:blipFill>
          <a:blip r:embed="rId2"/>
          <a:stretch/>
        </p:blipFill>
        <p:spPr>
          <a:xfrm>
            <a:off x="514440" y="1743120"/>
            <a:ext cx="8115120" cy="3371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547640" y="23050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5364000" y="2319480"/>
            <a:ext cx="136872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1547640" y="32702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5003640" y="3255840"/>
            <a:ext cx="1368720" cy="3841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7"/>
          <a:stretch/>
        </p:blipFill>
        <p:spPr>
          <a:xfrm>
            <a:off x="1547640" y="41497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8"/>
          <a:stretch/>
        </p:blipFill>
        <p:spPr>
          <a:xfrm>
            <a:off x="5435640" y="4164120"/>
            <a:ext cx="136836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538200" y="1343160"/>
            <a:ext cx="8066160" cy="41716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1547640" y="18446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1547640" y="27813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1547640" y="3716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5"/>
          <a:stretch/>
        </p:blipFill>
        <p:spPr>
          <a:xfrm>
            <a:off x="1547640" y="462456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338040" y="2095560"/>
            <a:ext cx="8466120" cy="266688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6146" descr=""/>
          <p:cNvPicPr/>
          <p:nvPr/>
        </p:nvPicPr>
        <p:blipFill>
          <a:blip r:embed="rId2"/>
          <a:stretch/>
        </p:blipFill>
        <p:spPr>
          <a:xfrm>
            <a:off x="1476360" y="3068640"/>
            <a:ext cx="7272360" cy="565200"/>
          </a:xfrm>
          <a:prstGeom prst="rect">
            <a:avLst/>
          </a:prstGeom>
          <a:ln w="0">
            <a:noFill/>
          </a:ln>
        </p:spPr>
      </p:pic>
      <p:pic>
        <p:nvPicPr>
          <p:cNvPr id="1047" name="图片 6147" descr=""/>
          <p:cNvPicPr/>
          <p:nvPr/>
        </p:nvPicPr>
        <p:blipFill>
          <a:blip r:embed="rId3"/>
          <a:stretch/>
        </p:blipFill>
        <p:spPr>
          <a:xfrm>
            <a:off x="1460520" y="4119480"/>
            <a:ext cx="727236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85680" y="1209600"/>
            <a:ext cx="8972640" cy="44388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7524720" y="2722680"/>
            <a:ext cx="1295280" cy="384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7451640" y="3587760"/>
            <a:ext cx="1295640" cy="384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4"/>
          <a:stretch/>
        </p:blipFill>
        <p:spPr>
          <a:xfrm>
            <a:off x="7451640" y="4826160"/>
            <a:ext cx="1295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352440" y="2143080"/>
            <a:ext cx="8439120" cy="25718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2"/>
          <a:stretch/>
        </p:blipFill>
        <p:spPr>
          <a:xfrm>
            <a:off x="7164360" y="2579760"/>
            <a:ext cx="1224000" cy="384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3"/>
          <a:stretch/>
        </p:blipFill>
        <p:spPr>
          <a:xfrm>
            <a:off x="3708360" y="3832200"/>
            <a:ext cx="295128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1:39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